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1C6-0323-4782-AEE5-CCBDF043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9626-6DDC-4451-8316-9B8144A8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81D-E8E9-452D-94A3-C9029438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969-0E34-42A0-9325-202CFB3A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D33D-46AE-4F77-9B13-338ABC6B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C4BB-48F2-4BFC-B217-FC093C07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24BB-CC9B-43DD-9D44-6A1F4F1C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5AF3-17A6-4EB2-9383-F8D4E7BA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FAFC-FE7D-44E4-B3AD-7741259C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8E23-E9D5-40D4-AF2E-15FB7069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B06C-541D-4484-A0DA-D0FC1859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9C9-0543-4AA3-83DA-49E2F41D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955B-F3B5-4EA1-A43C-FD01BBC8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1FA0-AAF7-4A2F-9B62-090BB0D9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0702-CDB9-4AED-B481-BA8DB4A1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8EF1-6E5D-4303-B7DB-910C718C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104C-8C8E-4B1B-B7D8-4617107A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D9202-7709-4976-B198-13EFAFB5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01524-61C6-40E2-B2C1-9E99E292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53B01-FFCD-4CD5-9500-DD7E5AA4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87554-FAA1-4B95-B5AC-09A4932A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4FABD-8E3E-47D7-A77B-FA876FE3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44B-C328-46DC-A6E6-6303BA2B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24218-32EB-469E-8153-779EE2B8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FE88E-EA34-4A40-80D5-E054379A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3D79A-C081-43FF-9F54-B41FEC41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0A7AF-A97B-4A2C-8BF0-F6D75498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DBC25-F135-48C2-BAF5-4B37F1F2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4C74B-6671-499F-AC1B-45B17BCA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7332C-2031-4E88-AB3B-794538C1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9F72F-F65F-474C-A678-5BE1D608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598EB-B712-4535-A1E8-B16D80AE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3CCC8-075D-4588-B500-4844F202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8341-FF7F-42D0-B77D-1C88BBA0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1B6C1-2931-4F9D-A1F3-7F74C859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3096C-5D2D-4CDB-AD13-2ECA8C87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AF874-4DC4-45EA-B70D-9FD254FD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B089E-64BB-42BE-8A50-EFE7F341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865C8-34D2-407C-8784-6565BD83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520A0-05DF-44B9-981D-E2B946FD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0577A-3339-48BE-BD27-470C7EB3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EA7F0-FCCD-41AE-9EAE-AABC45B6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6CC0E-7F01-4092-994D-FA0A0AD3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BF5B3-8DF1-4133-B58B-71C98F6D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ED8-F751-429D-B129-21E5F4E6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AB08A-70E6-4BC7-823E-0EAC30DB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A0619-004B-4BC9-821D-F5AD524A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B1C57-D9F3-479F-BE72-16B373B6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ED862-10E9-4493-A160-FE2F3F52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34AF4-8C19-43AB-A17E-6AD3C2D9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B8571-A438-4728-8DA4-CD862694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008A1-974A-4737-9BBD-105F174A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2A468-BC46-4D3B-BAE3-E90DA44C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173E0-79AA-48AA-9A87-DEF44EC1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06528-7BCC-4A7E-AF1E-B5C4637D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2BC-C3DF-4D9C-88C7-C0782BEE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106EC-901C-4DE0-ABBE-205DFA25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B3DD5-47BC-4755-86A2-95FAE53E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80123B-A45C-4209-8B60-0EFB3C26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A6A84B-72BD-4617-91F6-9D398769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6E1A99-0D86-46B9-9A60-4613D362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CE0670-F308-4779-86D3-1AC20EA1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4F543E-6710-482E-B327-3C705067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71D244-6331-47C1-BCEA-79F79EEB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4D9D75-8303-4BB1-B6F6-F64487C6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577228-F157-4AFF-8A34-15C93198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BDB8-F411-4490-9483-D73DAFAD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561BD5-B350-4D7C-B9C5-7F5AEA54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F29E7B-B4C2-41CC-883C-835B929A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C239FF-0B0D-4519-9964-EC5745C9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38A83-3CBB-4BFC-9669-4EC102B4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63737-D4D9-4F23-98B9-C8EE7C1A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AC14B-E283-4B54-8AA8-D0F9F040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1B30A-CE43-4C3D-9EA0-623F322B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6E19E-E5BA-4549-BFD8-618D0F38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E6CDE-505C-4FF9-AFDD-47ADC356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14600-C561-489C-B24B-39B90046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428-1397-4ACC-B296-049B9E25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876CE-A8D7-43A1-962B-825D93AD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FDE9C-0B3A-430C-8969-50442393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4BAF8-1E11-49EB-AF2C-1ED8A332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9E251-CBF7-471B-A9FA-00898DCB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A3900-52B7-44D3-B5FB-578F7B3A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90D-35FF-4A92-B7A9-29EF8F99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4913-1227-4C2D-A8DD-A9E0E501EA26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5B60-1119-4F02-9BDB-5AF7B584928A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8A3D-D817-43CF-BEDF-49644094CE0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82B9-EA6D-4654-8C7E-649A4CB19224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F17C-C4DD-4A39-8073-E48B6FF5E5D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5767-EED1-40E5-869A-5137E9FE737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F186-BEEE-4776-B586-74135BC3D1E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jka.ru/blog/zagadki/443.html" TargetMode="External"/><Relationship Id="rId2" Type="http://schemas.openxmlformats.org/officeDocument/2006/relationships/hyperlink" Target="http://cliparti.jimdo.com/" TargetMode="External"/><Relationship Id="rId3" Type="http://schemas.openxmlformats.org/officeDocument/2006/relationships/hyperlink" Target="http://afield.org.ua/mod3/mod74_1.html" TargetMode="External"/><Relationship Id="rId4" Type="http://schemas.openxmlformats.org/officeDocument/2006/relationships/hyperlink" Target="http://www.russian-ornament.ru/" TargetMode="External"/><Relationship Id="rId5" Type="http://schemas.openxmlformats.org/officeDocument/2006/relationships/hyperlink" Target="http://www.ozon.ru/person/2768776/" TargetMode="External"/><Relationship Id="rId6" Type="http://schemas.openxmlformats.org/officeDocument/2006/relationships/hyperlink" Target="http://www.ozon.ru/brand/858454/" TargetMode="External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ocrafts.co.uk.moikompas.ru/img/compas/2010-01-08/kruzheva_v_vyazhenii/44714904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ed=1&amp;text=&#1094;&#1074;&#1077;&#1090;&#1086;&#1095;&#1085;&#1099;&#1081;%20&#1086;&#1088;&#1085;&#1072;&#1084;&#1077;&#1085;&#1090;&amp;p=26&amp;img_url=1m1.ucoz.ru%2FVEKTOR%2FORNAMENT%2FORNAMENT_01%2F01%2F17.jpg&amp;rpt=simag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g-fotki.yandex.ru/get/4519/81454286.292/0_81152_f55cda2d_XL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.allday.ru/6b/0e/d6/1295575267_ar_stranica_14-1.jp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Рисунок 6" descr="4683827_20130109_143515 (394x559, 104Kb)/4683827_20130117_151114 (429x475, 163Kb)"/>
          <p:cNvPicPr/>
          <p:nvPr/>
        </p:nvPicPr>
        <p:blipFill>
          <a:blip r:embed="rId1"/>
          <a:stretch/>
        </p:blipFill>
        <p:spPr>
          <a:xfrm>
            <a:off x="6084720" y="1844640"/>
            <a:ext cx="2737080" cy="2489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4683827_20130111_140315 (371x419, 80Kb)"/>
          <p:cNvPicPr/>
          <p:nvPr/>
        </p:nvPicPr>
        <p:blipFill>
          <a:blip r:embed="rId2"/>
          <a:stretch/>
        </p:blipFill>
        <p:spPr>
          <a:xfrm>
            <a:off x="241200" y="1844640"/>
            <a:ext cx="3533760" cy="39909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692000" y="475920"/>
            <a:ext cx="65530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Урок ИЗО в 1 класс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Узоры, которые создали люди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4" name="Подзаголовок 2"/>
          <p:cNvSpPr/>
          <p:nvPr/>
        </p:nvSpPr>
        <p:spPr>
          <a:xfrm>
            <a:off x="3751200" y="4941720"/>
            <a:ext cx="507060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оставитель: Лунегова Светлана Вячеслав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учитель начальных классов, 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МБОУ «СОШ № 2 г.Юрги» Юргин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городской округ Кемер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9" descr="проект 006"/>
          <p:cNvPicPr/>
          <p:nvPr/>
        </p:nvPicPr>
        <p:blipFill>
          <a:blip r:embed="rId1"/>
          <a:stretch/>
        </p:blipFill>
        <p:spPr>
          <a:xfrm>
            <a:off x="900000" y="1125360"/>
            <a:ext cx="3240360" cy="43196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проект 005"/>
          <p:cNvPicPr/>
          <p:nvPr/>
        </p:nvPicPr>
        <p:blipFill>
          <a:blip r:embed="rId2"/>
          <a:stretch/>
        </p:blipFill>
        <p:spPr>
          <a:xfrm>
            <a:off x="4716360" y="944640"/>
            <a:ext cx="3494160" cy="4680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Русский народный крестьянский костюм"/>
          <p:cNvPicPr/>
          <p:nvPr/>
        </p:nvPicPr>
        <p:blipFill>
          <a:blip r:embed="rId3"/>
          <a:srcRect l="37672" t="0" r="24686" b="0"/>
          <a:stretch/>
        </p:blipFill>
        <p:spPr>
          <a:xfrm>
            <a:off x="1403280" y="1689120"/>
            <a:ext cx="1484280" cy="3138480"/>
          </a:xfrm>
          <a:prstGeom prst="rect">
            <a:avLst/>
          </a:prstGeom>
          <a:ln w="0">
            <a:noFill/>
          </a:ln>
        </p:spPr>
      </p:pic>
      <p:grpSp>
        <p:nvGrpSpPr>
          <p:cNvPr id="369" name="Группа 3"/>
          <p:cNvGrpSpPr/>
          <p:nvPr/>
        </p:nvGrpSpPr>
        <p:grpSpPr>
          <a:xfrm>
            <a:off x="6300720" y="1393920"/>
            <a:ext cx="938160" cy="3902040"/>
            <a:chOff x="6300720" y="1393920"/>
            <a:chExt cx="938160" cy="3902040"/>
          </a:xfrm>
        </p:grpSpPr>
        <p:pic>
          <p:nvPicPr>
            <p:cNvPr id="370" name="Picture 7" descr="Русский народный крестьянский костюм"/>
            <p:cNvPicPr/>
            <p:nvPr/>
          </p:nvPicPr>
          <p:blipFill>
            <a:blip r:embed="rId4"/>
            <a:srcRect l="0" t="0" r="60574" b="0"/>
            <a:stretch/>
          </p:blipFill>
          <p:spPr>
            <a:xfrm>
              <a:off x="6300720" y="1393920"/>
              <a:ext cx="938160" cy="18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7" descr="Русский народный крестьянский костюм"/>
            <p:cNvPicPr/>
            <p:nvPr/>
          </p:nvPicPr>
          <p:blipFill>
            <a:blip r:embed="rId5"/>
            <a:srcRect l="68314" t="0" r="0" b="0"/>
            <a:stretch/>
          </p:blipFill>
          <p:spPr>
            <a:xfrm>
              <a:off x="6346440" y="3168720"/>
              <a:ext cx="892440" cy="212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одзаголовок 2"/>
          <p:cNvSpPr/>
          <p:nvPr/>
        </p:nvSpPr>
        <p:spPr>
          <a:xfrm>
            <a:off x="1619280" y="2276640"/>
            <a:ext cx="619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179280" y="222840"/>
            <a:ext cx="885672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исок лит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.Учебник «Изобразительное искусство. Ты изображаешь, украшаешь и строишь», автор Л.А.Неменская, М.: «Просвещение», 2011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.Загадки про одежду. [Электронный ресурс]. </a:t>
            </a:r>
            <a:r>
              <a:rPr b="0" lang="ru-RU" sz="1600" spc="-1" strike="noStrike" u="sng">
                <a:solidFill>
                  <a:srgbClr val="cccc00"/>
                </a:solidFill>
                <a:uFillTx/>
                <a:latin typeface="Times New Roman"/>
                <a:ea typeface="Times New Roman"/>
                <a:hlinkClick r:id="rId1"/>
              </a:rPr>
              <a:t>http://ejka.ru/blog/zagadki/443.htm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Электронный ресурс </a:t>
            </a:r>
            <a:r>
              <a:rPr b="0" lang="ru-RU" sz="1600" spc="-1" strike="noStrike" u="sng">
                <a:solidFill>
                  <a:srgbClr val="cccc00"/>
                </a:solidFill>
                <a:uFillTx/>
                <a:latin typeface="Times New Roman"/>
                <a:ea typeface="Times New Roman"/>
                <a:hlinkClick r:id="rId2"/>
              </a:rPr>
              <a:t>http://cliparti.jimdo.com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Сборник великорусских и малороссийских узоров для вышивания" (1877 г.) Раритетное издание о русской вышивке. СПб, 1877 г. Страниц: 12, Размер: 4,7 М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Русский народный костюм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ресурс]. </a:t>
            </a:r>
            <a:r>
              <a:rPr b="0" lang="ru-RU" sz="1600" spc="-1" strike="noStrike" u="sng">
                <a:solidFill>
                  <a:srgbClr val="cccc00"/>
                </a:solidFill>
                <a:uFillTx/>
                <a:latin typeface="Times New Roman"/>
                <a:ea typeface="Times New Roman"/>
                <a:hlinkClick r:id="rId3"/>
              </a:rPr>
              <a:t>http://afield.org.ua/mod3/mod74_1.htm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Русский народный орнамент. [Электронный ресурс].  </a:t>
            </a:r>
            <a:r>
              <a:rPr b="0" lang="ru-RU" sz="1600" spc="-1" strike="noStrike" u="sng">
                <a:solidFill>
                  <a:srgbClr val="cccc00"/>
                </a:solidFill>
                <a:uFillTx/>
                <a:latin typeface="Times New Roman"/>
                <a:ea typeface="Times New Roman"/>
                <a:hlinkClick r:id="rId4"/>
              </a:rPr>
              <a:t>http://www.russian-ornament.ru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Русский орнамент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итель: </a:t>
            </a:r>
            <a:r>
              <a:rPr b="0" lang="ru-RU" sz="1600" spc="-1" strike="noStrike" u="sng">
                <a:solidFill>
                  <a:srgbClr val="cccc00"/>
                </a:solidFill>
                <a:uFillTx/>
                <a:latin typeface="Times New Roman"/>
                <a:ea typeface="Calibri"/>
                <a:hlinkClick r:id="rId5"/>
              </a:rPr>
              <a:t>Вера Ивановска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тельство: </a:t>
            </a:r>
            <a:r>
              <a:rPr b="0" lang="ru-RU" sz="1600" spc="-1" strike="noStrike" u="sng">
                <a:solidFill>
                  <a:srgbClr val="cccc00"/>
                </a:solidFill>
                <a:uFillTx/>
                <a:latin typeface="Times New Roman"/>
                <a:ea typeface="Times New Roman"/>
                <a:hlinkClick r:id="rId6"/>
              </a:rPr>
              <a:t>Издательство В. Шевчу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10 г., 208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Русский орнамент.  [Электронный ресурс]. https://www.google.ru/search?q=%D1%80%D1%83%D1%81%D1%81%D0%BA%D0%B8%D0%B9+%D0%BD%D0%B0%D1%80%D0%BE%D0%B4%D0%BD%D1%8B%D0%B9+%D0%BE%D1%80%D0%BD%D0%B0%D0%BC%D0%B5%D0%BD%D1%82&amp;newwindow=1&amp;espv=2&amp;biw=1366&amp;bih=667&amp;tbm=isch&amp;imgil=DtFarNbSmngZ1M%253A%253B9aqUHBcmZIkTGM%253Bhttp%25253A%25252F%25252Fwomanadvice.ru%25252Fornament-russkogo-narodnogo-kostyuma&amp;source=iu&amp;pf=m&amp;fir=DtFarNbSmngZ1M%253A%252C9aqUHBcmZIkTGM%252C_&amp;usg=__Q1mC- b00WbQkS2I0th5f8dqmpwo%3D&amp;ved=0CCkQyjdqFQoTCPattvD538cCFYaEcgodRt4CAQ&amp;ei=tOfqVfaDLYaJygPGvIsI#imgrc=DtFarNbSmngZ1M%3A&amp;usg=__Q1mC-b00WbQkS2I0th5f8dqmpwo%3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Виноградова Л.П. Использование информационных технологий в начальной школе: Материалы научно-практической конференции.-2000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Г.Ладонщиков «Потерялась варежка». [Электронный ресурс].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novaya beresta.ru/publ/roditeljam_i_vospitateljam/noty_detskikh_pesen/poterjalas_varezhka_kravchenko_b_ladonshhikov_g/22-1-0-13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i-main-pic" descr="Картинка 64 из 13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4292640"/>
            <a:ext cx="1360440" cy="2305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i?id=347935890-60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4508640"/>
            <a:ext cx="2149560" cy="1935000"/>
          </a:xfrm>
          <a:prstGeom prst="rect">
            <a:avLst/>
          </a:prstGeom>
          <a:ln w="0">
            <a:noFill/>
          </a:ln>
        </p:spPr>
      </p:pic>
      <p:pic>
        <p:nvPicPr>
          <p:cNvPr id="337" name="i-main-pic" descr="Картинка 162 из 175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4000" y="4365720"/>
            <a:ext cx="2230200" cy="2276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бабочка"/>
          <p:cNvPicPr/>
          <p:nvPr/>
        </p:nvPicPr>
        <p:blipFill>
          <a:blip r:embed="rId7"/>
          <a:srcRect l="28133" t="0" r="0" b="0"/>
          <a:stretch/>
        </p:blipFill>
        <p:spPr>
          <a:xfrm>
            <a:off x="3276720" y="415800"/>
            <a:ext cx="2301840" cy="2401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6" descr="http://www.zastavki.com/pictures/1920x1200/2011/Nature_Seasons_Summer_Flowers_macro_030399_.jpg"/>
          <p:cNvPicPr/>
          <p:nvPr/>
        </p:nvPicPr>
        <p:blipFill>
          <a:blip r:embed="rId8"/>
          <a:srcRect l="0" t="0" r="11450" b="0"/>
          <a:stretch/>
        </p:blipFill>
        <p:spPr>
          <a:xfrm>
            <a:off x="5794200" y="482760"/>
            <a:ext cx="2791080" cy="1969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8" descr="http://xn----8sbiecm6bhdx8i.xn--p1ai/images/Winter/winter_3_1.jpg"/>
          <p:cNvPicPr/>
          <p:nvPr/>
        </p:nvPicPr>
        <p:blipFill>
          <a:blip r:embed="rId9"/>
          <a:srcRect l="2611" t="0" r="2641" b="4377"/>
          <a:stretch/>
        </p:blipFill>
        <p:spPr>
          <a:xfrm>
            <a:off x="179280" y="415800"/>
            <a:ext cx="2986200" cy="225900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1"/>
          <p:cNvSpPr/>
          <p:nvPr/>
        </p:nvSpPr>
        <p:spPr>
          <a:xfrm>
            <a:off x="179280" y="281772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рода помогала мастерицам создавать чудесные уз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Рисунок 3" descr="http://www.hnh.ru/file/0002/3120.jpg"/>
          <p:cNvPicPr/>
          <p:nvPr/>
        </p:nvPicPr>
        <p:blipFill>
          <a:blip r:embed="rId1"/>
          <a:srcRect l="17976" t="24029" r="57797" b="18662"/>
          <a:stretch/>
        </p:blipFill>
        <p:spPr>
          <a:xfrm>
            <a:off x="250920" y="244440"/>
            <a:ext cx="4249800" cy="5559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s64"/>
          <p:cNvPicPr/>
          <p:nvPr/>
        </p:nvPicPr>
        <p:blipFill>
          <a:blip r:embed="rId2"/>
          <a:stretch/>
        </p:blipFill>
        <p:spPr>
          <a:xfrm>
            <a:off x="4759200" y="446040"/>
            <a:ext cx="4249800" cy="1128600"/>
          </a:xfrm>
          <a:prstGeom prst="rect">
            <a:avLst/>
          </a:prstGeom>
          <a:ln w="0">
            <a:noFill/>
          </a:ln>
        </p:spPr>
      </p:pic>
      <p:sp>
        <p:nvSpPr>
          <p:cNvPr id="344" name="Подзаголовок 2"/>
          <p:cNvSpPr/>
          <p:nvPr/>
        </p:nvSpPr>
        <p:spPr>
          <a:xfrm>
            <a:off x="1403280" y="1297080"/>
            <a:ext cx="6769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Arial"/>
              </a:rPr>
              <a:t>Ор-на-мен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http://www.russian-ornament.ru/images/9/9e/Poias1r.jpg"/>
          <p:cNvPicPr/>
          <p:nvPr/>
        </p:nvPicPr>
        <p:blipFill>
          <a:blip r:embed="rId3"/>
          <a:srcRect l="0" t="0" r="48291" b="0"/>
          <a:stretch/>
        </p:blipFill>
        <p:spPr>
          <a:xfrm>
            <a:off x="2376360" y="4226040"/>
            <a:ext cx="63835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"/>
          <p:cNvSpPr/>
          <p:nvPr/>
        </p:nvSpPr>
        <p:spPr>
          <a:xfrm>
            <a:off x="1042920" y="333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900000" y="47628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Чем похожи эти орнамен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i-main-pic" descr="Картинка 169 из 1266">
            <a:hlinkClick r:id="rId1"/>
          </p:cNvPr>
          <p:cNvPicPr/>
          <p:nvPr/>
        </p:nvPicPr>
        <p:blipFill>
          <a:blip r:embed="rId2"/>
          <a:srcRect l="0" t="0" r="0" b="99278"/>
          <a:stretch/>
        </p:blipFill>
        <p:spPr>
          <a:xfrm>
            <a:off x="611280" y="1052640"/>
            <a:ext cx="2886120" cy="28440"/>
          </a:xfrm>
          <a:prstGeom prst="rect">
            <a:avLst/>
          </a:prstGeom>
          <a:ln w="0">
            <a:noFill/>
          </a:ln>
        </p:spPr>
      </p:pic>
      <p:pic>
        <p:nvPicPr>
          <p:cNvPr id="349" name="i-main-pic" descr="Картинка 169 из 1266"/>
          <p:cNvPicPr/>
          <p:nvPr/>
        </p:nvPicPr>
        <p:blipFill>
          <a:blip r:embed="rId3"/>
          <a:srcRect l="0" t="3436" r="0" b="79030"/>
          <a:stretch/>
        </p:blipFill>
        <p:spPr>
          <a:xfrm>
            <a:off x="826920" y="1622520"/>
            <a:ext cx="7345440" cy="2165400"/>
          </a:xfrm>
          <a:prstGeom prst="rect">
            <a:avLst/>
          </a:prstGeom>
          <a:ln w="0">
            <a:noFill/>
          </a:ln>
        </p:spPr>
      </p:pic>
      <p:pic>
        <p:nvPicPr>
          <p:cNvPr id="350" name="i-main-pic" descr="Картинка 119 из 1266"/>
          <p:cNvPicPr/>
          <p:nvPr/>
        </p:nvPicPr>
        <p:blipFill>
          <a:blip r:embed="rId4"/>
          <a:srcRect l="0" t="3944" r="0" b="73088"/>
          <a:stretch/>
        </p:blipFill>
        <p:spPr>
          <a:xfrm>
            <a:off x="755640" y="4440240"/>
            <a:ext cx="741672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4451400" cy="2303280"/>
          </a:xfrm>
          <a:prstGeom prst="rect">
            <a:avLst/>
          </a:prstGeom>
          <a:ln w="12600">
            <a:solidFill>
              <a:srgbClr val="993300"/>
            </a:solidFill>
            <a:miter/>
          </a:ln>
        </p:spPr>
      </p:pic>
      <p:pic>
        <p:nvPicPr>
          <p:cNvPr id="352" name="Picture 5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3583080" cy="2133720"/>
          </a:xfrm>
          <a:prstGeom prst="rect">
            <a:avLst/>
          </a:prstGeom>
          <a:ln w="12600">
            <a:solidFill>
              <a:srgbClr val="cf543f"/>
            </a:solidFill>
            <a:miter/>
          </a:ln>
        </p:spPr>
      </p:pic>
      <p:pic>
        <p:nvPicPr>
          <p:cNvPr id="353" name="Picture 6" descr=""/>
          <p:cNvPicPr/>
          <p:nvPr/>
        </p:nvPicPr>
        <p:blipFill>
          <a:blip r:embed="rId3"/>
          <a:stretch/>
        </p:blipFill>
        <p:spPr>
          <a:xfrm>
            <a:off x="5724360" y="1197000"/>
            <a:ext cx="2643480" cy="4753080"/>
          </a:xfrm>
          <a:prstGeom prst="rect">
            <a:avLst/>
          </a:prstGeom>
          <a:ln w="12600">
            <a:solidFill>
              <a:srgbClr val="cf543f"/>
            </a:solidFill>
            <a:miter/>
          </a:ln>
        </p:spPr>
      </p:pic>
      <p:sp>
        <p:nvSpPr>
          <p:cNvPr id="354" name="Text Box 9"/>
          <p:cNvSpPr/>
          <p:nvPr/>
        </p:nvSpPr>
        <p:spPr>
          <a:xfrm>
            <a:off x="971640" y="404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Что объединяет эти узо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4"/>
          <p:cNvSpPr/>
          <p:nvPr/>
        </p:nvSpPr>
        <p:spPr>
          <a:xfrm>
            <a:off x="971640" y="333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циональные русские уз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Рисунок 7" descr="Так выглядит русская народная женская рубаха"/>
          <p:cNvPicPr/>
          <p:nvPr/>
        </p:nvPicPr>
        <p:blipFill>
          <a:blip r:embed="rId1"/>
          <a:srcRect l="18367" t="0" r="16339" b="4243"/>
          <a:stretch/>
        </p:blipFill>
        <p:spPr>
          <a:xfrm>
            <a:off x="2260440" y="1260360"/>
            <a:ext cx="2303640" cy="48261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http://rusorn.ru/wp-content/uploads/2013/11/%D0%BA%D0%B0%D0%BA-%D1%81%D1%88%D0%B8%D1%82%D1%8C-%D1%80%D1%83%D0%B1%D0%B0%D1%85%D1%83-%D1%84%D0%BE%D1%82%D0%BE-42.jpg"/>
          <p:cNvPicPr/>
          <p:nvPr/>
        </p:nvPicPr>
        <p:blipFill>
          <a:blip r:embed="rId2"/>
          <a:srcRect l="20625" t="0" r="9349" b="7502"/>
          <a:stretch/>
        </p:blipFill>
        <p:spPr>
          <a:xfrm>
            <a:off x="4594320" y="1281240"/>
            <a:ext cx="2592360" cy="4825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Русский народный крестьянский костюм"/>
          <p:cNvPicPr/>
          <p:nvPr/>
        </p:nvPicPr>
        <p:blipFill>
          <a:blip r:embed="rId3"/>
          <a:srcRect l="62283" t="0" r="0" b="0"/>
          <a:stretch/>
        </p:blipFill>
        <p:spPr>
          <a:xfrm>
            <a:off x="322200" y="1397160"/>
            <a:ext cx="1800360" cy="4724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Русский народный крестьянский костюм"/>
          <p:cNvPicPr/>
          <p:nvPr/>
        </p:nvPicPr>
        <p:blipFill>
          <a:blip r:embed="rId4"/>
          <a:srcRect l="6444" t="0" r="58447" b="0"/>
          <a:stretch/>
        </p:blipFill>
        <p:spPr>
          <a:xfrm>
            <a:off x="7269120" y="1403280"/>
            <a:ext cx="16765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7" descr="http://rusorn.ru/wp-content/uploads/2014/03/%D0%9C%D0%B8%D1%85%D0%B0%D0%B9%D0%BB%D0%BE%D0%B2%D1%81%D0%BA%D0%BE%D0%B5-%D0%BA%D1%80%D1%83%D0%B6%D0%B5%D0%B2%D0%BE-11.jpg"/>
          <p:cNvPicPr/>
          <p:nvPr/>
        </p:nvPicPr>
        <p:blipFill>
          <a:blip r:embed="rId1"/>
          <a:srcRect l="9815" t="9279" r="8249" b="15784"/>
          <a:stretch/>
        </p:blipFill>
        <p:spPr>
          <a:xfrm>
            <a:off x="611280" y="765000"/>
            <a:ext cx="741672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4" descr="http://www.hnh.ru/file/0002/3120.jpg"/>
          <p:cNvPicPr/>
          <p:nvPr/>
        </p:nvPicPr>
        <p:blipFill>
          <a:blip r:embed="rId1"/>
          <a:srcRect l="50321" t="22385" r="12631" b="25172"/>
          <a:stretch/>
        </p:blipFill>
        <p:spPr>
          <a:xfrm>
            <a:off x="179280" y="1484280"/>
            <a:ext cx="3579840" cy="484812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3" descr="http://4put.ru/pictures/max/624/1919082.jpg"/>
          <p:cNvPicPr/>
          <p:nvPr/>
        </p:nvPicPr>
        <p:blipFill>
          <a:blip r:embed="rId2"/>
          <a:srcRect l="3938" t="10429" r="1513" b="21220"/>
          <a:stretch/>
        </p:blipFill>
        <p:spPr>
          <a:xfrm>
            <a:off x="4356000" y="4240080"/>
            <a:ext cx="2303640" cy="2413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http://rusorn.ru/wp-content/uploads/2014/03/%D0%9C%D0%B8%D1%85%D0%B0%D0%B9%D0%BB%D0%BE%D0%B2%D1%81%D0%BA%D0%BE%D0%B5-%D0%BA%D1%80%D1%83%D0%B6%D0%B5%D0%B2%D0%BE-5.jpg"/>
          <p:cNvPicPr/>
          <p:nvPr/>
        </p:nvPicPr>
        <p:blipFill>
          <a:blip r:embed="rId3"/>
          <a:srcRect l="1432" t="0" r="0" b="0"/>
          <a:stretch/>
        </p:blipFill>
        <p:spPr>
          <a:xfrm>
            <a:off x="3635280" y="285840"/>
            <a:ext cx="496908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0" descr="http://rusorn.ru/wp-content/uploads/2013/11/%D0%BC%D0%B5%D0%B7%D0%B5%D0%BD%D1%81%D0%BA%D0%B0%D1%8F-%D1%80%D0%BE%D1%81%D0%BF%D0%B8%D1%81%D1%8C-%D1%83%D1%80%D0%BE%D0%B2%D0%BD%D0%B8.jpg"/>
          <p:cNvPicPr/>
          <p:nvPr/>
        </p:nvPicPr>
        <p:blipFill>
          <a:blip r:embed="rId1"/>
          <a:stretch/>
        </p:blipFill>
        <p:spPr>
          <a:xfrm>
            <a:off x="4933800" y="333360"/>
            <a:ext cx="3959280" cy="5767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http://rusorn.ru/wp-content/uploads/2013/11/mezenskaya-rospis-03.jpg"/>
          <p:cNvPicPr/>
          <p:nvPr/>
        </p:nvPicPr>
        <p:blipFill>
          <a:blip r:embed="rId2"/>
          <a:srcRect l="48688" t="24596" r="2715" b="11899"/>
          <a:stretch/>
        </p:blipFill>
        <p:spPr>
          <a:xfrm>
            <a:off x="324000" y="765000"/>
            <a:ext cx="4394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7:16:42Z</dcterms:created>
  <dc:creator>Admin</dc:creator>
  <dc:description/>
  <dc:language>en-US</dc:language>
  <cp:lastModifiedBy>Vitaly Lunegov</cp:lastModifiedBy>
  <dcterms:modified xsi:type="dcterms:W3CDTF">2017-11-26T15:47:08Z</dcterms:modified>
  <cp:revision>42</cp:revision>
  <dc:subject/>
  <dc:title>МОУ Борискино-Игарская СОШ</dc:title>
</cp:coreProperties>
</file>